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2C70-C799-4000-9442-5A03C39EE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717BE-CD4B-48E5-A66A-0EE5BF2CD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BA73B-75BD-49DC-B08B-0D58A74EF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CF8DF-BF96-4AB1-9309-957BB6401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565D6-9FF8-4AEF-9E80-0A50FC404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89972-7F5B-4AE0-80BA-5CF194D8B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BF158-14F5-49C1-AE23-0CB2E94E1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2CAD5-DFE8-4E0D-BD7E-701042EC0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30E4F-6CEC-4665-9896-D95F2A51F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A4B20-DA9B-42A4-870D-57A41CE70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DA7B9-C221-4543-A29F-FD4153164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A849E-7B0B-4E0C-818F-4F00300C1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36341-0147-4407-999F-FA1C70183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B74C7-1DE0-40E4-BB52-BF0EA9451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58464-CE3D-47E5-96E8-94E98A2D3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F4610-6F23-4E4E-987E-0468DA241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311C5-4A38-46B4-8E76-7B1A80C9E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F7595-6D1F-4B2D-B626-3EFE08086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165A8-0AD5-4E89-B1FA-6E255CB17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15497-34F8-4DBF-8C93-CB27BBF06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ECE36-DF14-48F0-8046-FC29B0A9A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830EA-A892-4AD5-AEFB-3BBC9C100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4F0FF-ABDB-4BBD-BA31-312AE882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00CD-B1BB-4706-8B47-3510988E4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2459-A41B-44B0-9CBE-0F6760402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A418-4DD1-4AFC-9E5B-B1A661A45E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1079-416C-48A4-B7C8-B85BB79E5A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pic>
        <p:nvPicPr>
          <p:cNvPr id="90" name="" descr=""/>
          <p:cNvPicPr/>
          <p:nvPr/>
        </p:nvPicPr>
        <p:blipFill>
          <a:blip r:embed="rId2"/>
          <a:stretch/>
        </p:blipFill>
        <p:spPr>
          <a:xfrm>
            <a:off x="2362320" y="990720"/>
            <a:ext cx="4190760" cy="4419360"/>
          </a:xfrm>
          <a:prstGeom prst="rect">
            <a:avLst/>
          </a:prstGeom>
          <a:ln w="0">
            <a:noFill/>
          </a:ln>
        </p:spPr>
      </p:pic>
      <p:sp>
        <p:nvSpPr>
          <p:cNvPr id="91" name=""/>
          <p:cNvSpPr/>
          <p:nvPr/>
        </p:nvSpPr>
        <p:spPr>
          <a:xfrm>
            <a:off x="3352680" y="5334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にち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pic>
        <p:nvPicPr>
          <p:cNvPr id="97" name="" descr=""/>
          <p:cNvPicPr/>
          <p:nvPr/>
        </p:nvPicPr>
        <p:blipFill>
          <a:blip r:embed="rId2"/>
          <a:stretch/>
        </p:blipFill>
        <p:spPr>
          <a:xfrm>
            <a:off x="5410080" y="1676520"/>
            <a:ext cx="2870280" cy="3657600"/>
          </a:xfrm>
          <a:prstGeom prst="rect">
            <a:avLst/>
          </a:prstGeom>
          <a:ln w="0">
            <a:noFill/>
          </a:ln>
        </p:spPr>
      </p:pic>
      <p:sp>
        <p:nvSpPr>
          <p:cNvPr id="98"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876920" y="762120"/>
            <a:ext cx="3581280" cy="507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486400" y="1676520"/>
            <a:ext cx="3200400" cy="2286000"/>
          </a:xfrm>
          <a:prstGeom prst="rect">
            <a:avLst/>
          </a:prstGeom>
          <a:ln w="0">
            <a:noFill/>
          </a:ln>
        </p:spPr>
      </p:pic>
      <p:pic>
        <p:nvPicPr>
          <p:cNvPr id="105" name="" descr=""/>
          <p:cNvPicPr/>
          <p:nvPr/>
        </p:nvPicPr>
        <p:blipFill>
          <a:blip r:embed="rId3"/>
          <a:stretch/>
        </p:blipFill>
        <p:spPr>
          <a:xfrm>
            <a:off x="5943600" y="4267080"/>
            <a:ext cx="232416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724280" y="1676520"/>
            <a:ext cx="4191120" cy="431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2286000" y="1066680"/>
            <a:ext cx="4648320" cy="19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09-12-14T16:01:31Z</dcterms:modified>
  <cp:revision>6</cp:revision>
  <dc:subject/>
  <dc:title>日本ビデオゲーム</dc:title>
</cp:coreProperties>
</file>